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656-7219-46B7-98ED-D553D9FB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C1B-15B2-4752-B4E0-F667471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801-926B-4063-9F6D-F3E36B86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738-9955-453A-9AAB-2C0EB9B9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B91-2D65-47B5-8A17-3A7D8C1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6F2-7165-4651-A367-F81D3E4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94C-D522-4BA3-88BC-F1FBA17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DF2-F2F3-426C-8EA1-18B0651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96E-8563-496C-AB95-A5669B78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091-B320-4EE4-898A-FBA5840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E8E-2430-4108-800F-E606022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425-3CC4-4FD7-9F14-1F61DE3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E61D-B74E-47A6-8C89-A91FD46A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OPTIMIZAREA APLICAŢIILOR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FORMA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120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ducător ştiinţ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f. univ. dr. Ion I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ătălin Emilian B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00" y="1523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TEZĂ DE DOCTO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4360" y="1519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8080"/>
                </a:solidFill>
                <a:latin typeface="Arial"/>
              </a:rPr>
              <a:t>ACADEMIA DE STUDII ECONOM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808080"/>
                </a:solidFill>
                <a:latin typeface="Arial"/>
              </a:rPr>
              <a:t>Facultatea de Cibernetică, Statistică şi Informatică Economic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e experim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IE CRITER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4864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0" y="990720"/>
            <a:ext cx="37339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760" y="3260880"/>
            <a:ext cx="1841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LI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571500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PECIAL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17600" y="3581280"/>
            <a:ext cx="1447920" cy="838440"/>
            <a:chOff x="2217600" y="3581280"/>
            <a:chExt cx="1447920" cy="838440"/>
          </a:xfrm>
        </p:grpSpPr>
        <p:sp>
          <p:nvSpPr>
            <p:cNvPr id="147" name="Gear"/>
            <p:cNvSpPr/>
            <p:nvPr/>
          </p:nvSpPr>
          <p:spPr>
            <a:xfrm>
              <a:off x="3020400" y="3581280"/>
              <a:ext cx="645120" cy="384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17600" y="3739680"/>
              <a:ext cx="771480" cy="459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8000" y="3909240"/>
              <a:ext cx="857160" cy="51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23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ACTERI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03400" y="24382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3400" y="4648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8480" y="17971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1148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6000" y="350532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B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9480" y="4921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ULTICRITERI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838080"/>
            <a:ext cx="5181840" cy="5639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3"/>
            <a:endCxn id="153" idx="1"/>
          </p:cNvCxnSpPr>
          <p:nvPr/>
        </p:nvCxnSpPr>
        <p:spPr>
          <a:xfrm flipV="1">
            <a:off x="5343480" y="1964520"/>
            <a:ext cx="689760" cy="1693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7" idx="3"/>
            <a:endCxn id="155" idx="1"/>
          </p:cNvCxnSpPr>
          <p:nvPr/>
        </p:nvCxnSpPr>
        <p:spPr>
          <a:xfrm>
            <a:off x="5343120" y="3657600"/>
            <a:ext cx="732600" cy="165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3"/>
            <a:endCxn id="156" idx="1"/>
          </p:cNvCxnSpPr>
          <p:nvPr/>
        </p:nvCxnSpPr>
        <p:spPr>
          <a:xfrm>
            <a:off x="5343120" y="3657600"/>
            <a:ext cx="677160" cy="1432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6019920" y="1371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5791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86800" y="13716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20640" y="990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zultate experimen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819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UNI OPTIMIZ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43434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ITE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5627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49528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ICIENTI DE IMPOR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733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VELURI MA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0"/>
            <a:endCxn id="169" idx="1"/>
          </p:cNvCxnSpPr>
          <p:nvPr/>
        </p:nvCxnSpPr>
        <p:spPr>
          <a:xfrm flipH="1" flipV="1" rot="5400000">
            <a:off x="3680280" y="3756240"/>
            <a:ext cx="259560" cy="3353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7" idx="2"/>
            <a:endCxn id="169" idx="1"/>
          </p:cNvCxnSpPr>
          <p:nvPr/>
        </p:nvCxnSpPr>
        <p:spPr>
          <a:xfrm flipH="1" rot="16200000">
            <a:off x="3527280" y="3345480"/>
            <a:ext cx="564480" cy="3353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6" idx="2"/>
            <a:endCxn id="170" idx="1"/>
          </p:cNvCxnSpPr>
          <p:nvPr/>
        </p:nvCxnSpPr>
        <p:spPr>
          <a:xfrm flipH="1" rot="16200000">
            <a:off x="3412800" y="1859400"/>
            <a:ext cx="716760" cy="3429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562720" y="22096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ANALIZA MULTICRITERI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990720"/>
            <a:ext cx="419076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9" idx="0"/>
            <a:endCxn id="170" idx="2"/>
          </p:cNvCxnSpPr>
          <p:nvPr/>
        </p:nvCxnSpPr>
        <p:spPr>
          <a:xfrm flipV="1">
            <a:off x="7124400" y="4130280"/>
            <a:ext cx="1080" cy="82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0" idx="0"/>
            <a:endCxn id="174" idx="2"/>
          </p:cNvCxnSpPr>
          <p:nvPr/>
        </p:nvCxnSpPr>
        <p:spPr>
          <a:xfrm flipV="1">
            <a:off x="7124400" y="3031560"/>
            <a:ext cx="1080" cy="70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6934320" y="16002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rea stocării date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760" y="262728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0760" y="304956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80760" y="384660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80760" y="4268880"/>
            <a:ext cx="55872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429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981080"/>
            <a:ext cx="1981440" cy="198144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3505320"/>
            <a:ext cx="1981440" cy="198108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9280" y="20574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 utilizare spat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29160" y="5029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eza preluc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2004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65400" y="3367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3200400"/>
            <a:ext cx="1523880" cy="7621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9800" y="33526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UL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581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349280"/>
            <a:ext cx="3403440" cy="3014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D18246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773680" y="2855880"/>
            <a:ext cx="625680" cy="674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72240" y="3584520"/>
            <a:ext cx="635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18190_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477120" y="5861160"/>
            <a:ext cx="720720" cy="582480"/>
          </a:xfrm>
          <a:prstGeom prst="rect">
            <a:avLst/>
          </a:prstGeom>
          <a:ln w="0">
            <a:noFill/>
          </a:ln>
        </p:spPr>
      </p:pic>
      <p:pic>
        <p:nvPicPr>
          <p:cNvPr id="200" name="BD18185_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934320" y="4708440"/>
            <a:ext cx="998280" cy="68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161840" y="4861080"/>
            <a:ext cx="618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rm"/>
          <p:cNvSpPr/>
          <p:nvPr/>
        </p:nvSpPr>
        <p:spPr>
          <a:xfrm>
            <a:off x="7037280" y="2808360"/>
            <a:ext cx="631800" cy="7779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ocuments"/>
          <p:cNvSpPr/>
          <p:nvPr/>
        </p:nvSpPr>
        <p:spPr>
          <a:xfrm>
            <a:off x="6405480" y="1689120"/>
            <a:ext cx="777960" cy="876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160" rIns="29160" tIns="14760" bIns="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HTML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BODY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BODY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HTML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2760" y="2946240"/>
            <a:ext cx="19692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78560" y="3238560"/>
            <a:ext cx="196920" cy="1159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/>
          <p:nvPr/>
        </p:nvCxnSpPr>
        <p:spPr>
          <a:xfrm>
            <a:off x="7467120" y="4098960"/>
            <a:ext cx="39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" name=""/>
          <p:cNvCxnSpPr/>
          <p:nvPr/>
        </p:nvCxnSpPr>
        <p:spPr>
          <a:xfrm>
            <a:off x="6399000" y="3193560"/>
            <a:ext cx="640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"/>
          <p:cNvCxnSpPr/>
          <p:nvPr/>
        </p:nvCxnSpPr>
        <p:spPr>
          <a:xfrm flipH="1">
            <a:off x="6086160" y="2127240"/>
            <a:ext cx="31968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984720" y="3586320"/>
            <a:ext cx="76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nterf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6680" y="4024440"/>
            <a:ext cx="1146240" cy="22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compo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/>
          <p:nvPr/>
        </p:nvCxnSpPr>
        <p:spPr>
          <a:xfrm flipH="1">
            <a:off x="6465240" y="3354120"/>
            <a:ext cx="101196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/>
          <p:nvPr/>
        </p:nvCxnSpPr>
        <p:spPr>
          <a:xfrm flipH="1">
            <a:off x="6465240" y="3063960"/>
            <a:ext cx="865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4946760" y="2855880"/>
            <a:ext cx="438120" cy="68112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V="1">
            <a:off x="5384880" y="3193200"/>
            <a:ext cx="389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847040" y="3440160"/>
            <a:ext cx="682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Ba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Infopage"/>
          <p:cNvSpPr/>
          <p:nvPr/>
        </p:nvSpPr>
        <p:spPr>
          <a:xfrm>
            <a:off x="4995720" y="1641600"/>
            <a:ext cx="486000" cy="534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>
            <a:off x="5483160" y="1904760"/>
            <a:ext cx="60372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941720" y="2201760"/>
            <a:ext cx="1159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ministr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1240" y="1712880"/>
            <a:ext cx="5544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7280" y="6494400"/>
            <a:ext cx="754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9160" rIns="291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t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rea aplicatiei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b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7160" y="2682720"/>
            <a:ext cx="232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BD18190_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486400" y="5861160"/>
            <a:ext cx="720720" cy="582480"/>
          </a:xfrm>
          <a:prstGeom prst="rect">
            <a:avLst/>
          </a:prstGeom>
          <a:ln w="0">
            <a:noFill/>
          </a:ln>
        </p:spPr>
      </p:pic>
      <p:pic>
        <p:nvPicPr>
          <p:cNvPr id="224" name="BD18190_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8194680" y="5861160"/>
            <a:ext cx="720720" cy="582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00800" y="6056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3" idx="0"/>
            <a:endCxn id="200" idx="2"/>
          </p:cNvCxnSpPr>
          <p:nvPr/>
        </p:nvCxnSpPr>
        <p:spPr>
          <a:xfrm flipH="1" flipV="1" rot="5400000">
            <a:off x="6408360" y="4835160"/>
            <a:ext cx="464400" cy="158832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199" idx="0"/>
            <a:endCxn id="200" idx="2"/>
          </p:cNvCxnSpPr>
          <p:nvPr/>
        </p:nvCxnSpPr>
        <p:spPr>
          <a:xfrm flipH="1" flipV="1" rot="5400000">
            <a:off x="6903720" y="5330520"/>
            <a:ext cx="464400" cy="5976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0"/>
            <a:endCxn id="200" idx="2"/>
          </p:cNvCxnSpPr>
          <p:nvPr/>
        </p:nvCxnSpPr>
        <p:spPr>
          <a:xfrm flipV="1" rot="16200000">
            <a:off x="7762320" y="5068440"/>
            <a:ext cx="464400" cy="11214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2" idx="3"/>
            <a:endCxn id="196" idx="1"/>
          </p:cNvCxnSpPr>
          <p:nvPr/>
        </p:nvCxnSpPr>
        <p:spPr>
          <a:xfrm flipV="1">
            <a:off x="3102120" y="2856960"/>
            <a:ext cx="169920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1828800"/>
            <a:ext cx="4496040" cy="4495680"/>
          </a:xfrm>
          <a:prstGeom prst="ellipse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1828800"/>
            <a:ext cx="4496040" cy="44956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3429000"/>
          <a:ext cx="243828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29000"/>
                    <a:ext cx="2438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660320" y="289548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289548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 SU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rm"/>
          <p:cNvSpPr/>
          <p:nvPr/>
        </p:nvSpPr>
        <p:spPr>
          <a:xfrm>
            <a:off x="6172200" y="3657600"/>
            <a:ext cx="843120" cy="1033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52578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UCTURARE DINA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513396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RE DIMENSIUNE + PROCESARE 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60120" y="11541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2"/>
            <a:endCxn id="235" idx="0"/>
          </p:cNvCxnSpPr>
          <p:nvPr/>
        </p:nvCxnSpPr>
        <p:spPr>
          <a:xfrm flipH="1">
            <a:off x="2544480" y="1550520"/>
            <a:ext cx="1991520" cy="1345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2" name=""/>
          <p:cNvCxnSpPr>
            <a:stCxn id="240" idx="2"/>
            <a:endCxn id="236" idx="0"/>
          </p:cNvCxnSpPr>
          <p:nvPr/>
        </p:nvCxnSpPr>
        <p:spPr>
          <a:xfrm>
            <a:off x="4535280" y="1550520"/>
            <a:ext cx="2035800" cy="1345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rea aplicatiei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b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1676520"/>
            <a:ext cx="914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area si certificarea optimizar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1320" y="1866960"/>
            <a:ext cx="1547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2000" y="2552760"/>
            <a:ext cx="1646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odule aplicaţ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6320" y="2209680"/>
            <a:ext cx="1637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ezultate tes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/>
          <p:nvPr/>
        </p:nvCxnSpPr>
        <p:spPr>
          <a:xfrm>
            <a:off x="4405320" y="2095200"/>
            <a:ext cx="21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/>
          <p:nvPr/>
        </p:nvCxnSpPr>
        <p:spPr>
          <a:xfrm>
            <a:off x="4405320" y="2438280"/>
            <a:ext cx="21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321360" y="3809880"/>
            <a:ext cx="2282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apoarte de 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87360" y="3467160"/>
            <a:ext cx="950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ocedu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65280" y="3124080"/>
            <a:ext cx="21938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etode de optimi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>
            <a:off x="4462560" y="3352680"/>
            <a:ext cx="21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>
            <a:off x="4462560" y="3695400"/>
            <a:ext cx="21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3967560" y="4516560"/>
            <a:ext cx="8755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ezul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48440" y="175248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822320"/>
            <a:ext cx="4648320" cy="107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80440" y="2209680"/>
            <a:ext cx="10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NALIZ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009960"/>
            <a:ext cx="4648320" cy="1143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/>
          <p:nvPr/>
        </p:nvCxnSpPr>
        <p:spPr>
          <a:xfrm>
            <a:off x="8763120" y="2209320"/>
            <a:ext cx="21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2057400" y="4267080"/>
            <a:ext cx="4648320" cy="800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8440" y="300996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2720" y="346716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48440" y="4267080"/>
            <a:ext cx="114480" cy="800280"/>
          </a:xfrm>
          <a:custGeom>
            <a:avLst/>
            <a:gdLst>
              <a:gd name="textAreaLeft" fmla="*/ 0 w 114480"/>
              <a:gd name="textAreaRight" fmla="*/ 41400 w 11448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0920" y="4495680"/>
            <a:ext cx="15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ERTIFI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135720" y="31838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METRICI PROC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AUDI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are cod su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are algoritmi ge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are multicriteri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ucturare din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dit si certif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ocare op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19320" y="685800"/>
            <a:ext cx="6705360" cy="5486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minare rezul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838080"/>
            <a:ext cx="2895480" cy="289584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905120"/>
            <a:ext cx="2895480" cy="2895480"/>
          </a:xfrm>
          <a:prstGeom prst="ellipse">
            <a:avLst/>
          </a:prstGeom>
          <a:noFill/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743200"/>
            <a:ext cx="2895480" cy="289548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1828800"/>
            <a:ext cx="2895480" cy="2895480"/>
          </a:xfrm>
          <a:prstGeom prst="ellipse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unic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8494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oarte cerce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5000" y="578016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 acoperit peste 90% din t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z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zat 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TIE FUNCTI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PR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diul actual al cercetărilor în dome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iterii de op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prin sim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rea algoritmilor genetici şi a reţelelor neur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zultate experi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globală a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stocării în domeniul d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regăsirii inform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izarea aplicaţiilor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ditarea si certificarea proceselor de optimizare softwar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z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213264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biecti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identificarea modalităţilor prin care se optimizeaz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licaţiile informatice cu elaborarea de modele pent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surarea efectelor optimizăr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jlo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65104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ALGORI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303228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REPREZENTAR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41316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FUNC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79404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EXPRES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7528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CICL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924680" cy="3733560"/>
          </a:xfrm>
          <a:prstGeom prst="rect">
            <a:avLst/>
          </a:prstGeom>
          <a:noFill/>
          <a:ln w="57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120960" y="31608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2c69"/>
                </a:solidFill>
                <a:latin typeface="Arial"/>
              </a:rPr>
              <a:t>COMPI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6800760" y="3108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2c69"/>
                </a:solidFill>
                <a:latin typeface="Arial"/>
              </a:rPr>
              <a:t>COD 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619520"/>
            <a:ext cx="3429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2c69"/>
                </a:solidFill>
                <a:latin typeface="Arial"/>
              </a:rPr>
              <a:t>TABELE DE DECI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05440" y="4114800"/>
            <a:ext cx="266724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5440" y="1295280"/>
            <a:ext cx="266724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040" y="4114800"/>
            <a:ext cx="266724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1066680"/>
            <a:ext cx="312444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040" y="1204920"/>
          <a:ext cx="243864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204920"/>
                    <a:ext cx="2438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86080" y="4343400"/>
            <a:ext cx="555480" cy="722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51973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ere caracteris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40" y="266688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stici de cali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913440" y="1413000"/>
            <a:ext cx="663840" cy="796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05440" y="23781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icat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515280" y="4156200"/>
          <a:ext cx="144756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5280" y="4156200"/>
                    <a:ext cx="14475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905440" y="51973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zvoltar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e crite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2" idx="3"/>
            <a:endCxn id="73" idx="0"/>
          </p:cNvCxnSpPr>
          <p:nvPr/>
        </p:nvCxnSpPr>
        <p:spPr>
          <a:xfrm>
            <a:off x="3314880" y="1828800"/>
            <a:ext cx="1257840" cy="128016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5" name=""/>
          <p:cNvCxnSpPr>
            <a:stCxn id="60" idx="1"/>
            <a:endCxn id="73" idx="0"/>
          </p:cNvCxnSpPr>
          <p:nvPr/>
        </p:nvCxnSpPr>
        <p:spPr>
          <a:xfrm flipV="1" rot="10800000">
            <a:off x="4571280" y="1828440"/>
            <a:ext cx="1334160" cy="128016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6" name=""/>
          <p:cNvCxnSpPr>
            <a:stCxn id="61" idx="3"/>
            <a:endCxn id="73" idx="2"/>
          </p:cNvCxnSpPr>
          <p:nvPr/>
        </p:nvCxnSpPr>
        <p:spPr>
          <a:xfrm flipV="1">
            <a:off x="3085920" y="3504600"/>
            <a:ext cx="1486440" cy="114372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  <p:cxnSp>
        <p:nvCxnSpPr>
          <p:cNvPr id="77" name=""/>
          <p:cNvCxnSpPr>
            <a:stCxn id="59" idx="1"/>
            <a:endCxn id="73" idx="2"/>
          </p:cNvCxnSpPr>
          <p:nvPr/>
        </p:nvCxnSpPr>
        <p:spPr>
          <a:xfrm rot="10800000">
            <a:off x="4571280" y="3504600"/>
            <a:ext cx="1334160" cy="1143720"/>
          </a:xfrm>
          <a:prstGeom prst="bentConnector2">
            <a:avLst/>
          </a:prstGeom>
          <a:ln w="127080">
            <a:solidFill>
              <a:srgbClr val="c0c0c0"/>
            </a:solidFill>
            <a:miter/>
          </a:ln>
        </p:spPr>
      </p:cxn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erii de opt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9856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inimiz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paţiu de mem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volum de preluc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tranzac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ximiz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ci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mensiu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probl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de rezol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neral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grad de reutil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 optimiz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0560" y="4572000"/>
            <a:ext cx="193536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biectiv f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4680" y="2567160"/>
            <a:ext cx="1720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hnici de opti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371600"/>
            <a:ext cx="2828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4880" y="3811680"/>
            <a:ext cx="10749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criterii de op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313080"/>
            <a:ext cx="172080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l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313080"/>
            <a:ext cx="146988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une imbunatatita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56080" y="3811680"/>
            <a:ext cx="86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s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1880" y="2814480"/>
            <a:ext cx="1290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2480" y="3313080"/>
            <a:ext cx="172080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ie vari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8880" y="3562200"/>
            <a:ext cx="1506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080" y="3562200"/>
            <a:ext cx="10764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98120" y="516600"/>
            <a:ext cx="5594760" cy="5594400"/>
            <a:chOff x="1698120" y="516600"/>
            <a:chExt cx="5594760" cy="5594400"/>
          </a:xfrm>
        </p:grpSpPr>
        <p:cxnSp>
          <p:nvCxnSpPr>
            <p:cNvPr id="93" name=""/>
            <p:cNvCxnSpPr/>
            <p:nvPr/>
          </p:nvCxnSpPr>
          <p:spPr>
            <a:xfrm rot="5400000">
              <a:off x="4494240" y="515880"/>
              <a:ext cx="2520" cy="5595120"/>
            </a:xfrm>
            <a:prstGeom prst="bentConnector3">
              <a:avLst>
                <a:gd name="adj1" fmla="val -103500000"/>
              </a:avLst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4" name=""/>
            <p:cNvSpPr txBox="1"/>
            <p:nvPr/>
          </p:nvSpPr>
          <p:spPr>
            <a:xfrm rot="10800000">
              <a:off x="4494240" y="516600"/>
              <a:ext cx="1800" cy="559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292880" y="4060800"/>
            <a:ext cx="1800" cy="49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9120" y="3416400"/>
            <a:ext cx="15238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4788000"/>
            <a:ext cx="15238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izare prin simu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4000" y="841320"/>
            <a:ext cx="139248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lutie initi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9640" y="1328760"/>
            <a:ext cx="825120" cy="106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S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77160" y="2502000"/>
            <a:ext cx="10144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51800" y="1244520"/>
            <a:ext cx="14792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simu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05160" y="973080"/>
            <a:ext cx="63612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1658880"/>
            <a:ext cx="1458720" cy="21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6040" y="3564000"/>
            <a:ext cx="749160" cy="106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V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65760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3890520" y="1128600"/>
            <a:ext cx="108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200400" y="4951440"/>
            <a:ext cx="144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I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58960" y="6159600"/>
            <a:ext cx="24606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IMBUNATA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1"/>
            <a:endCxn id="103" idx="3"/>
          </p:cNvCxnSpPr>
          <p:nvPr/>
        </p:nvCxnSpPr>
        <p:spPr>
          <a:xfrm flipV="1" rot="10800000">
            <a:off x="4634640" y="1085760"/>
            <a:ext cx="3166200" cy="317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3" idx="3"/>
          </p:cNvCxnSpPr>
          <p:nvPr/>
        </p:nvCxnSpPr>
        <p:spPr>
          <a:xfrm rot="10800000">
            <a:off x="4635360" y="1402560"/>
            <a:ext cx="2756520" cy="3690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3" idx="2"/>
            <a:endCxn id="102" idx="0"/>
          </p:cNvCxnSpPr>
          <p:nvPr/>
        </p:nvCxnSpPr>
        <p:spPr>
          <a:xfrm flipH="1">
            <a:off x="3884400" y="1561680"/>
            <a:ext cx="8640" cy="940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1" idx="3"/>
            <a:endCxn id="102" idx="0"/>
          </p:cNvCxnSpPr>
          <p:nvPr/>
        </p:nvCxnSpPr>
        <p:spPr>
          <a:xfrm>
            <a:off x="1649160" y="1806480"/>
            <a:ext cx="2235600" cy="696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2"/>
            <a:endCxn id="96" idx="0"/>
          </p:cNvCxnSpPr>
          <p:nvPr/>
        </p:nvCxnSpPr>
        <p:spPr>
          <a:xfrm>
            <a:off x="3884400" y="2819520"/>
            <a:ext cx="6840" cy="59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6" idx="3"/>
            <a:endCxn id="102" idx="0"/>
          </p:cNvCxnSpPr>
          <p:nvPr/>
        </p:nvCxnSpPr>
        <p:spPr>
          <a:xfrm flipH="1" flipV="1">
            <a:off x="3884400" y="2501640"/>
            <a:ext cx="768960" cy="1257840"/>
          </a:xfrm>
          <a:prstGeom prst="bentConnector4">
            <a:avLst>
              <a:gd name="adj1" fmla="val -29742"/>
              <a:gd name="adj2" fmla="val 11817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6" idx="2"/>
            <a:endCxn id="97" idx="0"/>
          </p:cNvCxnSpPr>
          <p:nvPr/>
        </p:nvCxnSpPr>
        <p:spPr>
          <a:xfrm>
            <a:off x="3890520" y="410184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7" idx="2"/>
            <a:endCxn id="110" idx="0"/>
          </p:cNvCxnSpPr>
          <p:nvPr/>
        </p:nvCxnSpPr>
        <p:spPr>
          <a:xfrm flipH="1">
            <a:off x="3889080" y="5473440"/>
            <a:ext cx="216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7" idx="3"/>
            <a:endCxn id="106" idx="2"/>
          </p:cNvCxnSpPr>
          <p:nvPr/>
        </p:nvCxnSpPr>
        <p:spPr>
          <a:xfrm flipV="1">
            <a:off x="4652640" y="4519080"/>
            <a:ext cx="2739240" cy="6120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6" idx="0"/>
            <a:endCxn id="102" idx="0"/>
          </p:cNvCxnSpPr>
          <p:nvPr/>
        </p:nvCxnSpPr>
        <p:spPr>
          <a:xfrm flipV="1" rot="16200000">
            <a:off x="5106600" y="1279080"/>
            <a:ext cx="1062720" cy="3507480"/>
          </a:xfrm>
          <a:prstGeom prst="bentConnector3">
            <a:avLst>
              <a:gd name="adj1" fmla="val 12151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i ge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371600"/>
          <a:ext cx="25146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2514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0384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313200" y="18374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RETELE NEUR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282600" y="462528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2c69"/>
                </a:solidFill>
                <a:latin typeface="Arial"/>
              </a:rPr>
              <a:t>ALGORITMI GENE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7360" y="7621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MIZ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5840" y="1752480"/>
            <a:ext cx="2414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ociat procesul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0600" y="13064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440" y="2346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29" idx="1"/>
          </p:cNvCxnSpPr>
          <p:nvPr/>
        </p:nvCxnSpPr>
        <p:spPr>
          <a:xfrm flipV="1">
            <a:off x="7294320" y="1504800"/>
            <a:ext cx="386280" cy="60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8" idx="3"/>
            <a:endCxn id="130" idx="1"/>
          </p:cNvCxnSpPr>
          <p:nvPr/>
        </p:nvCxnSpPr>
        <p:spPr>
          <a:xfrm>
            <a:off x="7294320" y="2107800"/>
            <a:ext cx="402120" cy="43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06800" y="4038480"/>
            <a:ext cx="2414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e fac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itat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6858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048120"/>
            <a:ext cx="762120" cy="761760"/>
          </a:xfrm>
          <a:custGeom>
            <a:avLst/>
            <a:gdLst>
              <a:gd name="textAreaLeft" fmla="*/ 118800 w 762120"/>
              <a:gd name="textAreaRight" fmla="*/ 667080 w 7621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57280" y="37609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97600" y="4800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3" idx="3"/>
            <a:endCxn id="136" idx="1"/>
          </p:cNvCxnSpPr>
          <p:nvPr/>
        </p:nvCxnSpPr>
        <p:spPr>
          <a:xfrm flipV="1">
            <a:off x="7324560" y="3958920"/>
            <a:ext cx="432720" cy="435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3" idx="3"/>
            <a:endCxn id="137" idx="1"/>
          </p:cNvCxnSpPr>
          <p:nvPr/>
        </p:nvCxnSpPr>
        <p:spPr>
          <a:xfrm>
            <a:off x="7324200" y="4394160"/>
            <a:ext cx="474120" cy="60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4:38:59Z</dcterms:created>
  <dc:creator>Catalin</dc:creator>
  <dc:description/>
  <cp:keywords/>
  <dc:language>en-US</dc:language>
  <cp:lastModifiedBy>User</cp:lastModifiedBy>
  <dcterms:modified xsi:type="dcterms:W3CDTF">2008-02-20T09:12:05Z</dcterms:modified>
  <cp:revision>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